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8B4-CD36-443E-BE61-718F90CC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056-3591-4612-AD0C-BD416E8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57B-C492-4919-9668-6E502E31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5A4-3C31-4A74-9885-EA79AF39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658-FC84-4522-965B-85342CB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E3A-8F32-4294-AC6A-D8735B2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D49-C024-42FA-BD19-4E967EB1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749-DF04-4692-9B73-640E12C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D85-BB2B-4C28-8C24-D6B9A43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C96-EE41-4EE5-951E-7D7B8A3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048-C1AF-47C0-A70E-0957F1C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697-DEC1-42B9-B597-19E2675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A08F5EB5-F55E-47BA-BEDA-33C2578B44E9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pplus" descr=""/>
          <p:cNvPicPr/>
          <p:nvPr/>
        </p:nvPicPr>
        <p:blipFill>
          <a:blip r:embed="rId1"/>
          <a:stretch/>
        </p:blipFill>
        <p:spPr>
          <a:xfrm>
            <a:off x="-4572000" y="-674640"/>
            <a:ext cx="27430560" cy="2327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4:23:11Z</dcterms:created>
  <dc:creator>Planeación Distrital</dc:creator>
  <dc:description/>
  <dc:language>en-US</dc:language>
  <cp:lastModifiedBy>Planeación Distrital</cp:lastModifiedBy>
  <dcterms:modified xsi:type="dcterms:W3CDTF">2001-10-29T14:34:07Z</dcterms:modified>
  <cp:revision>1</cp:revision>
  <dc:subject/>
  <dc:title>Sin título de diapositiva</dc:title>
</cp:coreProperties>
</file>