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238413" cy="2286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5F4-92ED-443C-A475-2D07676C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1376820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133-61A3-431F-A3BA-3B1683AD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8032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788-D50D-442C-B8D6-6DC7449B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2240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252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2240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0252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887-0CCB-47D0-84A3-B38EFF42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99"/>
              </a:spcBef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7BE-EAFC-4843-B347-7FAD8FCA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B5D-1D2F-4D34-8CB5-EE4A7888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DF4-D190-4E13-A863-04922573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93B-0855-40C9-8637-BEFCE22A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031840"/>
            <a:ext cx="1295388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99"/>
              </a:spcBef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9E8-F52B-4EA8-B9E0-7443866B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2CA-B299-4FFE-A4CA-137904CC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8032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625-54E6-43E5-B2F9-34045852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C3C-E887-444A-8CC5-B604C521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816120" indent="-81612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8320" indent="-679320">
              <a:spcBef>
                <a:spcPts val="1899"/>
              </a:spcBef>
              <a:buClr>
                <a:srgbClr val="000000"/>
              </a:buClr>
              <a:buFont typeface="Times New Roman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2" marL="2720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3" marL="3809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4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5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6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2640" y="20827800"/>
            <a:ext cx="317484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06680" y="20827800"/>
            <a:ext cx="482580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921680" y="20827800"/>
            <a:ext cx="317484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fld id="{BEFD31E9-C601-4722-B65D-42732983FFA6}" type="slidenum"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lanes%20parciales%20wmf" descr=""/>
          <p:cNvPicPr/>
          <p:nvPr/>
        </p:nvPicPr>
        <p:blipFill>
          <a:blip r:embed="rId1"/>
          <a:stretch/>
        </p:blipFill>
        <p:spPr>
          <a:xfrm>
            <a:off x="-128520" y="-533520"/>
            <a:ext cx="24131520" cy="232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3:55:21Z</dcterms:created>
  <dc:creator>Planeación Distrital</dc:creator>
  <dc:description/>
  <dc:language>en-US</dc:language>
  <cp:lastModifiedBy>Planeación Distrital</cp:lastModifiedBy>
  <dcterms:modified xsi:type="dcterms:W3CDTF">2001-10-29T13:59:40Z</dcterms:modified>
  <cp:revision>1</cp:revision>
  <dc:subject/>
  <dc:title>Sin título de diapositiva</dc:title>
</cp:coreProperties>
</file>