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5238413" cy="2286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512-5DDA-47A4-8865-B90717A5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E40-7D72-4639-81C8-1860067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D9F-DC2E-47A4-9D6B-135DC750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240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2520" y="660384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240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2520" y="13768200"/>
            <a:ext cx="417096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666-F558-41D2-BC26-89BDA77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EFC-BAEF-4730-A168-B6022380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66A-976B-4601-8F41-5B8C3D8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28E-B45A-4851-8645-1EAA9BA0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341-0EDE-4BBE-938C-8B93982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031840"/>
            <a:ext cx="1295388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671-AD34-4BAF-87CB-685DF19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152-6C6C-4954-81D5-FF5E28A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0320" y="1376820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DF9-06A1-40C4-B010-1863805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0320" y="6603840"/>
            <a:ext cx="632124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13768200"/>
            <a:ext cx="12953880" cy="65422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628-F8E8-4030-85F5-90BCF1B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031840"/>
            <a:ext cx="12953880" cy="38102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6603840"/>
            <a:ext cx="12953880" cy="1371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20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3" marL="3809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5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lvl="6" marL="4898880" indent="-544320">
              <a:spcBef>
                <a:spcPts val="1899"/>
              </a:spcBef>
              <a:buClr>
                <a:srgbClr val="000000"/>
              </a:buClr>
              <a:buFont typeface="Times New Roman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264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6680" y="20827800"/>
            <a:ext cx="482580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1680" y="20827800"/>
            <a:ext cx="3174840" cy="15238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3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BACE9611-7288-4F3A-AFDB-6B75FE168C17}" type="slidenum"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lternativas%20de%20suelo%20industrial%20wmf" descr=""/>
          <p:cNvPicPr/>
          <p:nvPr/>
        </p:nvPicPr>
        <p:blipFill>
          <a:blip r:embed="rId1"/>
          <a:stretch/>
        </p:blipFill>
        <p:spPr>
          <a:xfrm>
            <a:off x="0" y="-1482840"/>
            <a:ext cx="40289040" cy="243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lternativas%20de%20suelo%20industrial%20wmf" descr=""/>
          <p:cNvPicPr/>
          <p:nvPr/>
        </p:nvPicPr>
        <p:blipFill>
          <a:blip r:embed="rId1"/>
          <a:stretch/>
        </p:blipFill>
        <p:spPr>
          <a:xfrm>
            <a:off x="-15087600" y="-1482840"/>
            <a:ext cx="40289040" cy="243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3:07:26Z</dcterms:created>
  <dc:creator>Planeación Distrital</dc:creator>
  <dc:description/>
  <dc:language>en-US</dc:language>
  <cp:lastModifiedBy>Planeación Distrital</cp:lastModifiedBy>
  <dcterms:modified xsi:type="dcterms:W3CDTF">2001-10-29T13:22:59Z</dcterms:modified>
  <cp:revision>1</cp:revision>
  <dc:subject/>
  <dc:title>Sin título de diapositiva</dc:title>
</cp:coreProperties>
</file>