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238413" cy="2286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7C3C-C800-4F48-A27C-31E2C8D6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1295388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13768200"/>
            <a:ext cx="1295388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CD54-BC14-47FD-9525-92B3E5B0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8032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36D7-E783-4754-9C1A-AEADBCA7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22400" y="660384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2520" y="660384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1376820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522400" y="1376820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02520" y="1376820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12E-28BA-4C0A-9461-F9D128EA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6603840"/>
            <a:ext cx="129538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99"/>
              </a:spcBef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5B8-3C72-4A05-B448-01CA6FE1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1295388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086-4E38-4309-9218-7243BB98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E62C-CC12-484D-AA1B-E616C5DF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CD3-7D7F-4B1B-A6B4-E06035AE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031840"/>
            <a:ext cx="12953880" cy="176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99"/>
              </a:spcBef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E446-EA55-46DF-A671-2DB02B5A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4F3B-0558-4C9C-9CB3-FE38EA41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8032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C183-1ED7-4D19-B173-B21291CF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13768200"/>
            <a:ext cx="1295388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99ED-335B-4673-B72B-B49C2E1E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6603840"/>
            <a:ext cx="1295388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816120" indent="-816120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68320" indent="-679320">
              <a:spcBef>
                <a:spcPts val="1899"/>
              </a:spcBef>
              <a:buClr>
                <a:srgbClr val="000000"/>
              </a:buClr>
              <a:buFont typeface="Times New Roman"/>
              <a:buChar char="–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2" marL="2720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3" marL="3809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–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4" marL="4898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5" marL="4898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6" marL="4898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2640" y="20827800"/>
            <a:ext cx="3174840" cy="15238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Autofit/>
          </a:bodyPr>
          <a:lstStyle>
            <a:lvl1pPr indent="0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3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206680" y="20827800"/>
            <a:ext cx="4825800" cy="15238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Autofit/>
          </a:bodyPr>
          <a:lstStyle>
            <a:lvl1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3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921680" y="20827800"/>
            <a:ext cx="3174840" cy="15238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Autofit/>
          </a:bodyPr>
          <a:lstStyle>
            <a:lvl1pPr indent="0" algn="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3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fld id="{BA901C1B-62AD-49C6-A5FE-A0F96DA8E5F7}" type="slidenum"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bas" descr=""/>
          <p:cNvPicPr/>
          <p:nvPr/>
        </p:nvPicPr>
        <p:blipFill>
          <a:blip r:embed="rId1"/>
          <a:stretch/>
        </p:blipFill>
        <p:spPr>
          <a:xfrm>
            <a:off x="0" y="-304920"/>
            <a:ext cx="24031440" cy="231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14:14:49Z</dcterms:created>
  <dc:creator>Planeación Distrital</dc:creator>
  <dc:description/>
  <dc:language>en-US</dc:language>
  <cp:lastModifiedBy>Planeación Distrital</cp:lastModifiedBy>
  <dcterms:modified xsi:type="dcterms:W3CDTF">2001-10-29T14:22:51Z</dcterms:modified>
  <cp:revision>1</cp:revision>
  <dc:subject/>
  <dc:title>Sin título de diapositiva</dc:title>
</cp:coreProperties>
</file>