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35A-EBDF-4F18-8A1A-C84ADA4C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379-5029-4C29-8F77-87955DB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06C-5819-404E-8CCB-5A539403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A7C-B789-483E-95F3-47689AE6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3CE-C2A9-4A6F-BEB6-19207C9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EF7-881F-407D-AF00-428F0875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C6C-A78F-436E-8639-99D68C1B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0D4-FB3A-4470-BCB0-2D778EE5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AD1-197D-4B3D-9B24-9A5DD436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9AF-7420-46A0-AFE7-5A3AC786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AC8-275D-48A4-9FC8-3B61A02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765-4887-4449-A031-E3998AC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80136D44-5E57-4563-9BD7-044C00BCD5B6}" type="slidenum"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quipamientos%20urbanos%20wmf" descr=""/>
          <p:cNvPicPr/>
          <p:nvPr/>
        </p:nvPicPr>
        <p:blipFill>
          <a:blip r:embed="rId1"/>
          <a:stretch/>
        </p:blipFill>
        <p:spPr>
          <a:xfrm>
            <a:off x="990720" y="-1265400"/>
            <a:ext cx="24696720" cy="237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4:06:11Z</dcterms:created>
  <dc:creator>Planeación Distrital</dc:creator>
  <dc:description/>
  <dc:language>en-US</dc:language>
  <cp:lastModifiedBy>Planeación Distrital</cp:lastModifiedBy>
  <dcterms:modified xsi:type="dcterms:W3CDTF">2001-10-29T14:11:53Z</dcterms:modified>
  <cp:revision>1</cp:revision>
  <dc:subject/>
  <dc:title>Sin título de diapositiva</dc:title>
</cp:coreProperties>
</file>