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6668413" cy="4952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1DE-64A9-431E-9E3E-DC8116E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4308200"/>
            <a:ext cx="226695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9830680"/>
            <a:ext cx="226695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0DC-4528-434B-92BC-65A48477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430820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430820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983068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983068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010-5CB9-49A2-99A4-3CBB278A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4308200"/>
            <a:ext cx="72993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4308200"/>
            <a:ext cx="72993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4308200"/>
            <a:ext cx="72993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9830680"/>
            <a:ext cx="72993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9830680"/>
            <a:ext cx="72993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9830680"/>
            <a:ext cx="72993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BB0-54EA-441F-8F17-8A420AF3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4308200"/>
            <a:ext cx="22669560" cy="297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0E7-3597-428D-A259-D25813B9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4308200"/>
            <a:ext cx="22669560" cy="29718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780-F09C-4F3E-8419-5679148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4308200"/>
            <a:ext cx="11062440" cy="29718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4308200"/>
            <a:ext cx="11062440" cy="29718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40B-A381-413A-A7E8-69EF61D2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65E-71F3-4116-803A-687A758B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4401720"/>
            <a:ext cx="22669560" cy="382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489-2F9A-4C49-878B-F3CF416D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430820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4308200"/>
            <a:ext cx="11062440" cy="29718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983068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A8B-6A21-4155-BAF4-DED5B70F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4308200"/>
            <a:ext cx="11062440" cy="29718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430820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983068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F14-C5CE-44E7-BF04-CAAE01C7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430820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4308200"/>
            <a:ext cx="1106244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9830680"/>
            <a:ext cx="22669560" cy="141753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54560"/>
                <a:tab algn="l" pos="870912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ACA-A97C-4D6F-9A3F-587D93B1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4401720"/>
            <a:ext cx="22669560" cy="82551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r>
              <a:rPr b="0" lang="en-US" sz="21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4308200"/>
            <a:ext cx="22669560" cy="297180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 fontScale="95000"/>
          </a:bodyPr>
          <a:p>
            <a:pPr marL="1551960" indent="-155196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1320" indent="-1293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2" marL="5171040" indent="-10342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3" marL="7238880" indent="-10342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4" marL="9306360" indent="-103284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5" marL="9306360" indent="-103284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6" marL="9306360" indent="-103284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4354560"/>
                <a:tab algn="l" pos="87091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45127800"/>
            <a:ext cx="5556240" cy="33019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>
              <a:buNone/>
              <a:tabLst>
                <a:tab algn="l" pos="0"/>
                <a:tab algn="l" pos="4354560"/>
                <a:tab algn="l" pos="870912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54560"/>
                <a:tab algn="l" pos="870912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45127800"/>
            <a:ext cx="8445600" cy="33019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 algn="ctr">
              <a:buNone/>
              <a:tabLst>
                <a:tab algn="l" pos="0"/>
                <a:tab algn="l" pos="4354560"/>
                <a:tab algn="l" pos="870912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45127800"/>
            <a:ext cx="5556240" cy="33019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 algn="r">
              <a:buNone/>
              <a:tabLst>
                <a:tab algn="l" pos="0"/>
                <a:tab algn="l" pos="4354560"/>
                <a:tab algn="l" pos="870912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54560"/>
                <a:tab algn="l" pos="8709120"/>
              </a:tabLst>
            </a:pPr>
            <a:fld id="{32EF6964-9EE4-472F-B399-EC689042F994}" type="slidenum"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structura%20urbanawmf" descr=""/>
          <p:cNvPicPr/>
          <p:nvPr/>
        </p:nvPicPr>
        <p:blipFill>
          <a:blip r:embed="rId1"/>
          <a:stretch/>
        </p:blipFill>
        <p:spPr>
          <a:xfrm>
            <a:off x="0" y="0"/>
            <a:ext cx="47655000" cy="483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8T15:09:49Z</dcterms:created>
  <dc:creator>Compaq User</dc:creator>
  <dc:description/>
  <dc:language>en-US</dc:language>
  <cp:lastModifiedBy>Compaq User</cp:lastModifiedBy>
  <dcterms:modified xsi:type="dcterms:W3CDTF">1996-03-08T15:12:11Z</dcterms:modified>
  <cp:revision>1</cp:revision>
  <dc:subject/>
  <dc:title>Sin título de diapositiva</dc:title>
</cp:coreProperties>
</file>