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238413" cy="2286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72F2-EFF5-4629-88B8-79E1F520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1295388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13768200"/>
            <a:ext cx="1295388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351E-1230-4C1E-92C2-D26D80FB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8032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A82D-9FE3-463F-AC33-0990C5B4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22400" y="660384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2520" y="660384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1376820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522400" y="1376820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02520" y="1376820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F4A6-48C1-45F4-BE48-F6FAFDC5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6603840"/>
            <a:ext cx="129538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99"/>
              </a:spcBef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CDD3-623D-46E4-B80F-EA7AB071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1295388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1A68-6DD3-48C1-8D2F-DE19AC98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07F-E889-46A7-BA5D-9AA4B1F7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EEB-7CB7-4663-B7F5-6BC41891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031840"/>
            <a:ext cx="12953880" cy="176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99"/>
              </a:spcBef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F69-515D-4807-8497-14DA5AA2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A58A-E933-4772-94DC-C02F69BC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8032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D563-9EFB-4A6E-A648-14E9BAA6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13768200"/>
            <a:ext cx="1295388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818-4763-4ECE-BBEF-221DE97D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6603840"/>
            <a:ext cx="1295388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816120" indent="-816120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68320" indent="-679320">
              <a:spcBef>
                <a:spcPts val="1899"/>
              </a:spcBef>
              <a:buClr>
                <a:srgbClr val="000000"/>
              </a:buClr>
              <a:buFont typeface="Times New Roman"/>
              <a:buChar char="–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2" marL="2720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3" marL="3809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–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4" marL="4898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5" marL="4898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6" marL="4898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2640" y="20827800"/>
            <a:ext cx="3174840" cy="15238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Autofit/>
          </a:bodyPr>
          <a:lstStyle>
            <a:lvl1pPr indent="0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3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206680" y="20827800"/>
            <a:ext cx="4825800" cy="15238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Autofit/>
          </a:bodyPr>
          <a:lstStyle>
            <a:lvl1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3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921680" y="20827800"/>
            <a:ext cx="3174840" cy="15238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Autofit/>
          </a:bodyPr>
          <a:lstStyle>
            <a:lvl1pPr indent="0" algn="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3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fld id="{A171556F-B5BC-46A0-AC7B-9C9E2A7A54C7}" type="slidenum"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mf2" descr=""/>
          <p:cNvPicPr/>
          <p:nvPr/>
        </p:nvPicPr>
        <p:blipFill>
          <a:blip r:embed="rId1"/>
          <a:stretch/>
        </p:blipFill>
        <p:spPr>
          <a:xfrm>
            <a:off x="1371600" y="0"/>
            <a:ext cx="23437800" cy="2271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14:00:13Z</dcterms:created>
  <dc:creator>Planeación Distrital</dc:creator>
  <dc:description/>
  <dc:language>en-US</dc:language>
  <cp:lastModifiedBy>Planeación Distrital</cp:lastModifiedBy>
  <dcterms:modified xsi:type="dcterms:W3CDTF">2001-10-29T14:04:07Z</dcterms:modified>
  <cp:revision>1</cp:revision>
  <dc:subject/>
  <dc:title>Sin título de diapositiva</dc:title>
</cp:coreProperties>
</file>