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4290000" cy="51055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6A8-69F1-473B-94C5-11C5F17D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4538160"/>
            <a:ext cx="29146320" cy="8509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ctr">
            <a:noAutofit/>
          </a:bodyPr>
          <a:p>
            <a:pPr indent="0" algn="ctr">
              <a:buNone/>
              <a:tabLst>
                <a:tab algn="l" pos="0"/>
                <a:tab algn="l" pos="4876920"/>
                <a:tab algn="l" pos="975348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4749560"/>
            <a:ext cx="2914632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30749400"/>
            <a:ext cx="2914632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64D-EC1C-4032-8FED-1EF79310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4538160"/>
            <a:ext cx="29146320" cy="8509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ctr">
            <a:noAutofit/>
          </a:bodyPr>
          <a:p>
            <a:pPr indent="0" algn="ctr">
              <a:buNone/>
              <a:tabLst>
                <a:tab algn="l" pos="0"/>
                <a:tab algn="l" pos="4876920"/>
                <a:tab algn="l" pos="975348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4749560"/>
            <a:ext cx="1422324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4749560"/>
            <a:ext cx="1422324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30749400"/>
            <a:ext cx="1422324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30749400"/>
            <a:ext cx="1422324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F06-FA2B-43BC-A1CC-EEE8AB7A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4538160"/>
            <a:ext cx="29146320" cy="8509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ctr">
            <a:noAutofit/>
          </a:bodyPr>
          <a:p>
            <a:pPr indent="0" algn="ctr">
              <a:buNone/>
              <a:tabLst>
                <a:tab algn="l" pos="0"/>
                <a:tab algn="l" pos="4876920"/>
                <a:tab algn="l" pos="975348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4749560"/>
            <a:ext cx="938484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4749560"/>
            <a:ext cx="938484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4749560"/>
            <a:ext cx="938484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30749400"/>
            <a:ext cx="938484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30749400"/>
            <a:ext cx="938484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30749400"/>
            <a:ext cx="938484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3EE-189E-44DB-9A33-84CA3B38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4538160"/>
            <a:ext cx="29146320" cy="8509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ctr">
            <a:noAutofit/>
          </a:bodyPr>
          <a:p>
            <a:pPr indent="0" algn="ctr">
              <a:buNone/>
              <a:tabLst>
                <a:tab algn="l" pos="0"/>
                <a:tab algn="l" pos="4876920"/>
                <a:tab algn="l" pos="975348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4749560"/>
            <a:ext cx="29146320" cy="306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75"/>
              </a:spcBef>
              <a:buNone/>
              <a:tabLst>
                <a:tab algn="l" pos="0"/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65A-B641-4C25-B5E7-C04211D3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4538160"/>
            <a:ext cx="29146320" cy="8509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ctr">
            <a:noAutofit/>
          </a:bodyPr>
          <a:p>
            <a:pPr indent="0" algn="ctr">
              <a:buNone/>
              <a:tabLst>
                <a:tab algn="l" pos="0"/>
                <a:tab algn="l" pos="4876920"/>
                <a:tab algn="l" pos="975348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4749560"/>
            <a:ext cx="29146320" cy="3063240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022-608E-4371-8D9A-D35E2952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4538160"/>
            <a:ext cx="29146320" cy="8509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ctr">
            <a:noAutofit/>
          </a:bodyPr>
          <a:p>
            <a:pPr indent="0" algn="ctr">
              <a:buNone/>
              <a:tabLst>
                <a:tab algn="l" pos="0"/>
                <a:tab algn="l" pos="4876920"/>
                <a:tab algn="l" pos="975348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4749560"/>
            <a:ext cx="14223240" cy="3063240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4749560"/>
            <a:ext cx="14223240" cy="3063240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570-CCBD-4D69-9CA3-F040F74E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4538160"/>
            <a:ext cx="29146320" cy="8509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ctr">
            <a:noAutofit/>
          </a:bodyPr>
          <a:p>
            <a:pPr indent="0" algn="ctr">
              <a:buNone/>
              <a:tabLst>
                <a:tab algn="l" pos="0"/>
                <a:tab algn="l" pos="4876920"/>
                <a:tab algn="l" pos="975348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D63-5580-45AE-A2B9-B7A35E72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4538160"/>
            <a:ext cx="29146320" cy="39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75"/>
              </a:spcBef>
              <a:tabLst>
                <a:tab algn="l" pos="0"/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7C6-D4B7-4443-B17B-22434D4A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4538160"/>
            <a:ext cx="29146320" cy="8509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ctr">
            <a:noAutofit/>
          </a:bodyPr>
          <a:p>
            <a:pPr indent="0" algn="ctr">
              <a:buNone/>
              <a:tabLst>
                <a:tab algn="l" pos="0"/>
                <a:tab algn="l" pos="4876920"/>
                <a:tab algn="l" pos="975348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4749560"/>
            <a:ext cx="1422324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4749560"/>
            <a:ext cx="14223240" cy="3063240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30749400"/>
            <a:ext cx="1422324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06B-3694-4776-A1C0-497789B3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4538160"/>
            <a:ext cx="29146320" cy="8509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ctr">
            <a:noAutofit/>
          </a:bodyPr>
          <a:p>
            <a:pPr indent="0" algn="ctr">
              <a:buNone/>
              <a:tabLst>
                <a:tab algn="l" pos="0"/>
                <a:tab algn="l" pos="4876920"/>
                <a:tab algn="l" pos="975348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4749560"/>
            <a:ext cx="14223240" cy="3063240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4749560"/>
            <a:ext cx="1422324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30749400"/>
            <a:ext cx="1422324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882-6D82-4371-AEAD-DF3BA97A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4538160"/>
            <a:ext cx="29146320" cy="8509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ctr">
            <a:noAutofit/>
          </a:bodyPr>
          <a:p>
            <a:pPr indent="0" algn="ctr">
              <a:buNone/>
              <a:tabLst>
                <a:tab algn="l" pos="0"/>
                <a:tab algn="l" pos="4876920"/>
                <a:tab algn="l" pos="975348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4749560"/>
            <a:ext cx="1422324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4749560"/>
            <a:ext cx="1422324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30749400"/>
            <a:ext cx="29146320" cy="14611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76920"/>
                <a:tab algn="l" pos="975348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22E-0B8B-4BBD-9CE6-23E19DD4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4538160"/>
            <a:ext cx="29146320" cy="850932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ctr">
            <a:noAutofit/>
          </a:bodyPr>
          <a:p>
            <a:pPr indent="0" algn="ctr">
              <a:buNone/>
              <a:tabLst>
                <a:tab algn="l" pos="0"/>
                <a:tab algn="l" pos="4876920"/>
                <a:tab algn="l" pos="9753480"/>
              </a:tabLst>
            </a:pPr>
            <a:r>
              <a:rPr b="0" lang="en-US" sz="23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4749560"/>
            <a:ext cx="29146320" cy="3063240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rmAutofit/>
          </a:bodyPr>
          <a:p>
            <a:pPr marL="1828800" indent="-1828800">
              <a:spcBef>
                <a:spcPts val="4275"/>
              </a:spcBef>
              <a:buClr>
                <a:srgbClr val="000000"/>
              </a:buClr>
              <a:buFont typeface="Times New Roman"/>
              <a:buChar char="•"/>
              <a:tabLst>
                <a:tab algn="l" pos="4876920"/>
                <a:tab algn="l" pos="975348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2520" indent="-1524240">
              <a:spcBef>
                <a:spcPts val="4275"/>
              </a:spcBef>
              <a:buClr>
                <a:srgbClr val="000000"/>
              </a:buClr>
              <a:buFont typeface="Times New Roman"/>
              <a:buChar char="–"/>
              <a:tabLst>
                <a:tab algn="l" pos="4876920"/>
                <a:tab algn="l" pos="975348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2" marL="6095880" indent="-1218960">
              <a:spcBef>
                <a:spcPts val="4275"/>
              </a:spcBef>
              <a:buClr>
                <a:srgbClr val="000000"/>
              </a:buClr>
              <a:buFont typeface="Times New Roman"/>
              <a:buChar char="•"/>
              <a:tabLst>
                <a:tab algn="l" pos="4876920"/>
                <a:tab algn="l" pos="975348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3" marL="8534520" indent="-1219320">
              <a:spcBef>
                <a:spcPts val="4275"/>
              </a:spcBef>
              <a:buClr>
                <a:srgbClr val="000000"/>
              </a:buClr>
              <a:buFont typeface="Times New Roman"/>
              <a:buChar char="–"/>
              <a:tabLst>
                <a:tab algn="l" pos="4876920"/>
                <a:tab algn="l" pos="975348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4" marL="10972800" indent="-1219320">
              <a:spcBef>
                <a:spcPts val="4275"/>
              </a:spcBef>
              <a:buClr>
                <a:srgbClr val="000000"/>
              </a:buClr>
              <a:buFont typeface="Times New Roman"/>
              <a:buChar char="»"/>
              <a:tabLst>
                <a:tab algn="l" pos="4876920"/>
                <a:tab algn="l" pos="975348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5" marL="10972800" indent="-1219320">
              <a:spcBef>
                <a:spcPts val="4275"/>
              </a:spcBef>
              <a:buClr>
                <a:srgbClr val="000000"/>
              </a:buClr>
              <a:buFont typeface="Times New Roman"/>
              <a:buChar char="»"/>
              <a:tabLst>
                <a:tab algn="l" pos="4876920"/>
                <a:tab algn="l" pos="975348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6" marL="10972800" indent="-1219320">
              <a:spcBef>
                <a:spcPts val="4275"/>
              </a:spcBef>
              <a:buClr>
                <a:srgbClr val="000000"/>
              </a:buClr>
              <a:buFont typeface="Times New Roman"/>
              <a:buChar char="»"/>
              <a:tabLst>
                <a:tab algn="l" pos="4876920"/>
                <a:tab algn="l" pos="975348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6514880"/>
            <a:ext cx="7143840" cy="340380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Autofit/>
          </a:bodyPr>
          <a:lstStyle>
            <a:lvl1pPr indent="0">
              <a:buNone/>
              <a:tabLst>
                <a:tab algn="l" pos="0"/>
                <a:tab algn="l" pos="4876920"/>
                <a:tab algn="l" pos="9753480"/>
              </a:tabLst>
              <a:defRPr b="0" lang="en-US" sz="7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876920"/>
                <a:tab algn="l" pos="975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6514880"/>
            <a:ext cx="10858320" cy="340380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Autofit/>
          </a:bodyPr>
          <a:lstStyle>
            <a:lvl1pPr indent="0" algn="ctr">
              <a:buNone/>
              <a:tabLst>
                <a:tab algn="l" pos="0"/>
                <a:tab algn="l" pos="4876920"/>
                <a:tab algn="l" pos="9753480"/>
              </a:tabLst>
              <a:defRPr b="0" lang="en-US" sz="7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876920"/>
                <a:tab algn="l" pos="975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6514880"/>
            <a:ext cx="7143480" cy="3403800"/>
          </a:xfrm>
          <a:prstGeom prst="rect">
            <a:avLst/>
          </a:prstGeom>
          <a:noFill/>
          <a:ln w="0">
            <a:noFill/>
          </a:ln>
        </p:spPr>
        <p:txBody>
          <a:bodyPr lIns="487800" rIns="487800" tIns="243720" bIns="243720" anchor="t">
            <a:noAutofit/>
          </a:bodyPr>
          <a:lstStyle>
            <a:lvl1pPr indent="0" algn="r">
              <a:buNone/>
              <a:tabLst>
                <a:tab algn="l" pos="0"/>
                <a:tab algn="l" pos="4876920"/>
                <a:tab algn="l" pos="9753480"/>
              </a:tabLst>
              <a:defRPr b="0" lang="en-US" sz="7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876920"/>
                <a:tab algn="l" pos="9753480"/>
              </a:tabLst>
            </a:pPr>
            <a:fld id="{FC436199-4037-420B-B498-777F154D3B81}" type="slidenum"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stema%20vial%20wmf" descr=""/>
          <p:cNvPicPr/>
          <p:nvPr/>
        </p:nvPicPr>
        <p:blipFill>
          <a:blip r:embed="rId1"/>
          <a:stretch/>
        </p:blipFill>
        <p:spPr>
          <a:xfrm>
            <a:off x="3581280" y="0"/>
            <a:ext cx="51968520" cy="495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5:57:48Z</dcterms:created>
  <dc:creator>Compaq User</dc:creator>
  <dc:description/>
  <dc:language>en-US</dc:language>
  <cp:lastModifiedBy>Compaq User</cp:lastModifiedBy>
  <dcterms:modified xsi:type="dcterms:W3CDTF">2001-01-29T16:00:26Z</dcterms:modified>
  <cp:revision>1</cp:revision>
  <dc:subject/>
  <dc:title>Sin título de diapositiva</dc:title>
</cp:coreProperties>
</file>