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5238413" cy="22860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56A4-46ED-46C4-8128-631E712B3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2031840"/>
            <a:ext cx="12953880" cy="381024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2640" y="6603840"/>
            <a:ext cx="1295388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42640" y="13768200"/>
            <a:ext cx="1295388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9C75-3084-484B-A1E4-DE3D72DE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2031840"/>
            <a:ext cx="12953880" cy="381024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2640" y="6603840"/>
            <a:ext cx="632124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780320" y="6603840"/>
            <a:ext cx="632124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42640" y="13768200"/>
            <a:ext cx="632124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780320" y="13768200"/>
            <a:ext cx="632124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5D1C-67A5-4CC8-BAA5-A891C8D77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2031840"/>
            <a:ext cx="12953880" cy="381024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2640" y="6603840"/>
            <a:ext cx="417096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522400" y="6603840"/>
            <a:ext cx="417096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902520" y="6603840"/>
            <a:ext cx="417096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42640" y="13768200"/>
            <a:ext cx="417096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522400" y="13768200"/>
            <a:ext cx="417096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902520" y="13768200"/>
            <a:ext cx="417096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6540-068C-4DB7-9FBE-C87C6CB82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2640" y="2031840"/>
            <a:ext cx="12953880" cy="381024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42640" y="6603840"/>
            <a:ext cx="129538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99"/>
              </a:spcBef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4A3E-F15E-4374-B00B-E6A6FA7FD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2031840"/>
            <a:ext cx="12953880" cy="381024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42640" y="6603840"/>
            <a:ext cx="12953880" cy="1371600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0F41-4318-4B9B-88EC-F6F9DE495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2031840"/>
            <a:ext cx="12953880" cy="381024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42640" y="6603840"/>
            <a:ext cx="6321240" cy="1371600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780320" y="6603840"/>
            <a:ext cx="6321240" cy="1371600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61B7-7E4F-4EEE-AD6D-DDC9BD1C5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2031840"/>
            <a:ext cx="12953880" cy="381024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FD40-4EAF-414D-BF92-AE5F88228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2640" y="2031840"/>
            <a:ext cx="12953880" cy="176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99"/>
              </a:spcBef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F2ED-359C-48F6-A168-5DA8B1BD6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2031840"/>
            <a:ext cx="12953880" cy="381024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42640" y="6603840"/>
            <a:ext cx="632124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780320" y="6603840"/>
            <a:ext cx="6321240" cy="1371600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42640" y="13768200"/>
            <a:ext cx="632124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5B42-5021-4CED-8011-AC39B833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2031840"/>
            <a:ext cx="12953880" cy="381024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2640" y="6603840"/>
            <a:ext cx="6321240" cy="1371600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780320" y="6603840"/>
            <a:ext cx="632124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780320" y="13768200"/>
            <a:ext cx="632124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3172-AB16-40C6-9AD6-285C6476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2031840"/>
            <a:ext cx="12953880" cy="381024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2640" y="6603840"/>
            <a:ext cx="632124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780320" y="6603840"/>
            <a:ext cx="632124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42640" y="13768200"/>
            <a:ext cx="1295388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C709-023D-4058-BF7E-6760B816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2031840"/>
            <a:ext cx="12953880" cy="381024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r>
              <a:rPr b="0" lang="en-US" sz="10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2640" y="6603840"/>
            <a:ext cx="12953880" cy="1371600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816120" indent="-816120">
              <a:spcBef>
                <a:spcPts val="1899"/>
              </a:spcBef>
              <a:buClr>
                <a:srgbClr val="000000"/>
              </a:buClr>
              <a:buFont typeface="Times New Roman"/>
              <a:buChar char="•"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68320" indent="-679320">
              <a:spcBef>
                <a:spcPts val="1899"/>
              </a:spcBef>
              <a:buClr>
                <a:srgbClr val="000000"/>
              </a:buClr>
              <a:buFont typeface="Times New Roman"/>
              <a:buChar char="–"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  <a:p>
            <a:pPr lvl="2" marL="2720880" indent="-544320">
              <a:spcBef>
                <a:spcPts val="1899"/>
              </a:spcBef>
              <a:buClr>
                <a:srgbClr val="000000"/>
              </a:buClr>
              <a:buFont typeface="Times New Roman"/>
              <a:buChar char="•"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  <a:p>
            <a:pPr lvl="3" marL="3809880" indent="-544320">
              <a:spcBef>
                <a:spcPts val="1899"/>
              </a:spcBef>
              <a:buClr>
                <a:srgbClr val="000000"/>
              </a:buClr>
              <a:buFont typeface="Times New Roman"/>
              <a:buChar char="–"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  <a:p>
            <a:pPr lvl="4" marL="4897440" indent="-542880">
              <a:spcBef>
                <a:spcPts val="1899"/>
              </a:spcBef>
              <a:buClr>
                <a:srgbClr val="000000"/>
              </a:buClr>
              <a:buFont typeface="Times New Roman"/>
              <a:buChar char="»"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  <a:p>
            <a:pPr lvl="5" marL="4897440" indent="-542880">
              <a:spcBef>
                <a:spcPts val="1899"/>
              </a:spcBef>
              <a:buClr>
                <a:srgbClr val="000000"/>
              </a:buClr>
              <a:buFont typeface="Times New Roman"/>
              <a:buChar char="»"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  <a:p>
            <a:pPr lvl="6" marL="4897440" indent="-542880">
              <a:spcBef>
                <a:spcPts val="1899"/>
              </a:spcBef>
              <a:buClr>
                <a:srgbClr val="000000"/>
              </a:buClr>
              <a:buFont typeface="Times New Roman"/>
              <a:buChar char="»"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42640" y="20827800"/>
            <a:ext cx="3174840" cy="15238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Autofit/>
          </a:bodyPr>
          <a:lstStyle>
            <a:lvl1pPr indent="0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  <a:defRPr b="0" lang="en-US" sz="3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206680" y="20827800"/>
            <a:ext cx="4825800" cy="15238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Autofit/>
          </a:bodyPr>
          <a:lstStyle>
            <a:lvl1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  <a:defRPr b="0" lang="en-US" sz="3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921680" y="20827800"/>
            <a:ext cx="3174840" cy="15238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Autofit/>
          </a:bodyPr>
          <a:lstStyle>
            <a:lvl1pPr indent="0" algn="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  <a:defRPr b="0" lang="en-US" sz="3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fld id="{B7392E54-DE32-4FC9-9599-037BB9836E64}" type="slidenum"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stema%20vial%20wmf" descr=""/>
          <p:cNvPicPr/>
          <p:nvPr/>
        </p:nvPicPr>
        <p:blipFill>
          <a:blip r:embed="rId1"/>
          <a:stretch/>
        </p:blipFill>
        <p:spPr>
          <a:xfrm>
            <a:off x="-304920" y="-1176480"/>
            <a:ext cx="30260880" cy="240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6T20:36:53Z</dcterms:created>
  <dc:creator>Planeación Distrital</dc:creator>
  <dc:description/>
  <dc:language>en-US</dc:language>
  <cp:lastModifiedBy>Planeación Distrital</cp:lastModifiedBy>
  <dcterms:modified xsi:type="dcterms:W3CDTF">2001-10-29T13:12:31Z</dcterms:modified>
  <cp:revision>2</cp:revision>
  <dc:subject/>
  <dc:title>Sin título de diapositiva</dc:title>
</cp:coreProperties>
</file>