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238413" cy="22860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96EF-B1C0-4B03-A3AC-C9ECE5626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1295388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2640" y="13768200"/>
            <a:ext cx="1295388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A5BA-FD0E-48EC-8613-731E8F69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8032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2640" y="1376820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80320" y="1376820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95E0-6C76-41D3-8361-08A0E5D2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522400" y="660384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2520" y="660384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2640" y="1376820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522400" y="1376820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02520" y="1376820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1F6C-E892-4157-A814-C65DBEC11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2640" y="6603840"/>
            <a:ext cx="129538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99"/>
              </a:spcBef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3ADE-DE19-4649-B165-66E95F1B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1295388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6629-6C26-40AF-9A78-4C5D7B52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632124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80320" y="6603840"/>
            <a:ext cx="632124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0CF1-BFE7-476B-A6D9-7C47B429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AD27-2EB8-4B19-BBFF-028ACAF3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2640" y="2031840"/>
            <a:ext cx="12953880" cy="176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99"/>
              </a:spcBef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992C-FD6B-424F-BD6D-BB71F619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80320" y="6603840"/>
            <a:ext cx="632124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2640" y="1376820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C812-0A7D-4F47-8763-F0DAA8DF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632124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8032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80320" y="1376820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DE30-C204-4799-A9FE-B0C9175E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8032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2640" y="13768200"/>
            <a:ext cx="1295388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B314-599F-4161-BF07-E55D5785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10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6603840"/>
            <a:ext cx="1295388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816120" indent="-816120">
              <a:spcBef>
                <a:spcPts val="1899"/>
              </a:spcBef>
              <a:buClr>
                <a:srgbClr val="000000"/>
              </a:buClr>
              <a:buFont typeface="Times New Roman"/>
              <a:buChar char="•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68320" indent="-679320">
              <a:spcBef>
                <a:spcPts val="1899"/>
              </a:spcBef>
              <a:buClr>
                <a:srgbClr val="000000"/>
              </a:buClr>
              <a:buFont typeface="Times New Roman"/>
              <a:buChar char="–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2" marL="2720880" indent="-544320">
              <a:spcBef>
                <a:spcPts val="1899"/>
              </a:spcBef>
              <a:buClr>
                <a:srgbClr val="000000"/>
              </a:buClr>
              <a:buFont typeface="Times New Roman"/>
              <a:buChar char="•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3" marL="3809880" indent="-544320">
              <a:spcBef>
                <a:spcPts val="1899"/>
              </a:spcBef>
              <a:buClr>
                <a:srgbClr val="000000"/>
              </a:buClr>
              <a:buFont typeface="Times New Roman"/>
              <a:buChar char="–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4" marL="4897440" indent="-542880">
              <a:spcBef>
                <a:spcPts val="1899"/>
              </a:spcBef>
              <a:buClr>
                <a:srgbClr val="000000"/>
              </a:buClr>
              <a:buFont typeface="Times New Roman"/>
              <a:buChar char="»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5" marL="4897440" indent="-542880">
              <a:spcBef>
                <a:spcPts val="1899"/>
              </a:spcBef>
              <a:buClr>
                <a:srgbClr val="000000"/>
              </a:buClr>
              <a:buFont typeface="Times New Roman"/>
              <a:buChar char="»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6" marL="4897440" indent="-542880">
              <a:spcBef>
                <a:spcPts val="1899"/>
              </a:spcBef>
              <a:buClr>
                <a:srgbClr val="000000"/>
              </a:buClr>
              <a:buFont typeface="Times New Roman"/>
              <a:buChar char="»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42640" y="20827800"/>
            <a:ext cx="3174840" cy="15238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Autofit/>
          </a:bodyPr>
          <a:lstStyle>
            <a:lvl1pPr indent="0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  <a:defRPr b="0" lang="en-US" sz="3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206680" y="20827800"/>
            <a:ext cx="4825800" cy="15238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Autofit/>
          </a:bodyPr>
          <a:lstStyle>
            <a:lvl1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  <a:defRPr b="0" lang="en-US" sz="3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921680" y="20827800"/>
            <a:ext cx="3174840" cy="15238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Autofit/>
          </a:bodyPr>
          <a:lstStyle>
            <a:lvl1pPr indent="0" algn="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  <a:defRPr b="0" lang="en-US" sz="3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fld id="{D8410A27-9C48-48A7-BE30-118AFA1FD2BF}" type="slidenum"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usos%20del%20suelo%20wmf" descr=""/>
          <p:cNvPicPr/>
          <p:nvPr/>
        </p:nvPicPr>
        <p:blipFill>
          <a:blip r:embed="rId1"/>
          <a:stretch/>
        </p:blipFill>
        <p:spPr>
          <a:xfrm>
            <a:off x="152280" y="-457200"/>
            <a:ext cx="29465640" cy="2268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21:18:34Z</dcterms:created>
  <dc:creator>.</dc:creator>
  <dc:description/>
  <dc:language>en-US</dc:language>
  <cp:lastModifiedBy>Planeación Distrital</cp:lastModifiedBy>
  <dcterms:modified xsi:type="dcterms:W3CDTF">2002-06-13T15:50:48Z</dcterms:modified>
  <cp:revision>5</cp:revision>
  <dc:subject/>
  <dc:title>Presentación de PowerPoint</dc:title>
</cp:coreProperties>
</file>